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sv-S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sv-S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5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sv-S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00B74F8-9F80-4162-8674-163A18D39D00}" type="slidenum">
              <a:rPr b="0" lang="sv-S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RGET  DOCENTI – non la pratica (interazione in aul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. Usando motori generici (Google, Bing…)  resultati a valanga, 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. Navigando siti &amp; servizi per l’educazione: identificare risorse per la FD, gestire registrazioni e riferimenti multipli (dispersio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. Entrando in “acque nuove”: affrontare lingue diverse, riferimenti a sistemi e contesti educative “estranei”, terminologia generica (difficoltà di comprensio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ertilizzazi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pone una piattaforma online ch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ilita 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reperimento, la condivisione e il riutilizzo di risorse educative digitali utili per la Formazione Docenti (pre-servizio/in-servizio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avorisce la condivisione di esperienze d’uso di tale risorse per il miglioramento delle pratiche e lo sviluppo delle competenze  profession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3 c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7480"/>
                <a:tab algn="l" pos="1434960"/>
                <a:tab algn="l" pos="2151000"/>
                <a:tab algn="l" pos="2868480"/>
                <a:tab algn="l" pos="358632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  <a:tab algn="l" pos="9334440"/>
                <a:tab algn="l" pos="9779040"/>
                <a:tab algn="l" pos="10223640"/>
                <a:tab algn="l" pos="10667880"/>
              </a:tabLst>
            </a:pPr>
            <a:fld id="{ACD96D9A-188E-406E-9349-94DEE2B78CC4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tabLst>
                <a:tab algn="l" pos="0"/>
                <a:tab algn="l" pos="906480"/>
                <a:tab algn="l" pos="1811160"/>
                <a:tab algn="l" pos="2717640"/>
                <a:tab algn="l" pos="3624120"/>
                <a:tab algn="l" pos="4530600"/>
                <a:tab algn="l" pos="5435640"/>
                <a:tab algn="l" pos="6342120"/>
                <a:tab algn="l" pos="7248600"/>
                <a:tab algn="l" pos="8153280"/>
                <a:tab algn="l" pos="9059760"/>
                <a:tab algn="l" pos="9966240"/>
                <a:tab algn="l" pos="10223640"/>
                <a:tab algn="l" pos="10667880"/>
              </a:tabLst>
            </a:pPr>
            <a:fld id="{469AA584-6CE3-4875-816B-D3DECDEA2D71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2236680" y="743040"/>
            <a:ext cx="232596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40320" cy="136875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cilmente reperibili e comprensibi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tinenti al (specifico) contesto FD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revoli e collauda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iutilizzabil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possibilmente) multimediali ed innovativ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1 punto di ref (non sostituisce), Valore aggiunto – accesso unificato, diversit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 Ricerca FD Multilin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3 ordine risultati, suggerimen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142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7142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7142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142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40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3640" y="6237000"/>
            <a:ext cx="3384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ReNe Workshop, Nov.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2" descr="C:\Documents and Settings\eriaxd\Skrivbord\Pågående projekt\Share.TEC\Logotype\bilder\logo sharetec horisontal.gif"/>
          <p:cNvPicPr/>
          <p:nvPr/>
        </p:nvPicPr>
        <p:blipFill>
          <a:blip r:embed="rId2"/>
          <a:stretch/>
        </p:blipFill>
        <p:spPr>
          <a:xfrm>
            <a:off x="4000680" y="6138720"/>
            <a:ext cx="1284120" cy="5763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upp 13"/>
          <p:cNvGrpSpPr/>
          <p:nvPr/>
        </p:nvGrpSpPr>
        <p:grpSpPr>
          <a:xfrm>
            <a:off x="7929720" y="6254640"/>
            <a:ext cx="857160" cy="490320"/>
            <a:chOff x="7929720" y="6254640"/>
            <a:chExt cx="857160" cy="490320"/>
          </a:xfrm>
        </p:grpSpPr>
        <p:pic>
          <p:nvPicPr>
            <p:cNvPr id="6" name="Picture 9" descr="jaune"/>
            <p:cNvPicPr/>
            <p:nvPr/>
          </p:nvPicPr>
          <p:blipFill>
            <a:blip r:embed="rId3"/>
            <a:stretch/>
          </p:blipFill>
          <p:spPr>
            <a:xfrm>
              <a:off x="8136360" y="6254640"/>
              <a:ext cx="428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ruta 12"/>
            <p:cNvSpPr/>
            <p:nvPr/>
          </p:nvSpPr>
          <p:spPr>
            <a:xfrm>
              <a:off x="7929720" y="6529320"/>
              <a:ext cx="85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ent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Documents and Settings\eriaxd\Skrivbord\Pågående projekt\Share.TEC\Logotype\bilder\logo sharetec horisontal.gif"/>
          <p:cNvPicPr/>
          <p:nvPr/>
        </p:nvPicPr>
        <p:blipFill>
          <a:blip r:embed="rId2"/>
          <a:stretch/>
        </p:blipFill>
        <p:spPr>
          <a:xfrm>
            <a:off x="468360" y="404640"/>
            <a:ext cx="280836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eriaxd\Skrivbord\Pågående projekt\Share.TEC\Webb\econtentplus_mid.jpg"/>
          <p:cNvPicPr/>
          <p:nvPr/>
        </p:nvPicPr>
        <p:blipFill>
          <a:blip r:embed="rId3"/>
          <a:stretch/>
        </p:blipFill>
        <p:spPr>
          <a:xfrm>
            <a:off x="3571920" y="5572080"/>
            <a:ext cx="190512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eriaxd\Skrivbord\Pågående projekt\Share.TEC\Logotype\bilder\logo sharetec horisontal.gif"/>
          <p:cNvPicPr/>
          <p:nvPr/>
        </p:nvPicPr>
        <p:blipFill>
          <a:blip r:embed="rId2"/>
          <a:stretch/>
        </p:blipFill>
        <p:spPr>
          <a:xfrm>
            <a:off x="4000680" y="6138720"/>
            <a:ext cx="1284120" cy="576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upp 13"/>
          <p:cNvGrpSpPr/>
          <p:nvPr/>
        </p:nvGrpSpPr>
        <p:grpSpPr>
          <a:xfrm>
            <a:off x="7929720" y="6254640"/>
            <a:ext cx="857160" cy="490320"/>
            <a:chOff x="7929720" y="6254640"/>
            <a:chExt cx="857160" cy="490320"/>
          </a:xfrm>
        </p:grpSpPr>
        <p:pic>
          <p:nvPicPr>
            <p:cNvPr id="88" name="Picture 9" descr="jaune"/>
            <p:cNvPicPr/>
            <p:nvPr/>
          </p:nvPicPr>
          <p:blipFill>
            <a:blip r:embed="rId3"/>
            <a:stretch/>
          </p:blipFill>
          <p:spPr>
            <a:xfrm>
              <a:off x="8136360" y="6254640"/>
              <a:ext cx="428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ruta 12"/>
            <p:cNvSpPr/>
            <p:nvPr/>
          </p:nvSpPr>
          <p:spPr>
            <a:xfrm>
              <a:off x="7929720" y="6529320"/>
              <a:ext cx="85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ent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68360" y="6402240"/>
            <a:ext cx="30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BCD, Genova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11-11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3044-98CC-4AB1-8BCD-882F39D5FED1}" type="datetime">
              <a:rPr b="0" lang="sv-SE" sz="1200" spc="-1" strike="noStrike">
                <a:solidFill>
                  <a:srgbClr val="898989"/>
                </a:solidFill>
                <a:latin typeface="Calibri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C:\Documents and Settings\eriaxd\Skrivbord\Pågående projekt\Share.TEC\Logotype\bilder\logo sharetec horisontal.gif"/>
          <p:cNvPicPr/>
          <p:nvPr/>
        </p:nvPicPr>
        <p:blipFill>
          <a:blip r:embed="rId2"/>
          <a:stretch/>
        </p:blipFill>
        <p:spPr>
          <a:xfrm>
            <a:off x="1571760" y="1428840"/>
            <a:ext cx="6215040" cy="2787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Documents and Settings\eriaxd\Skrivbord\Pågående projekt\Share.TEC\Webb\econtentplus_mid.jpg"/>
          <p:cNvPicPr/>
          <p:nvPr/>
        </p:nvPicPr>
        <p:blipFill>
          <a:blip r:embed="rId3"/>
          <a:stretch/>
        </p:blipFill>
        <p:spPr>
          <a:xfrm>
            <a:off x="3571920" y="5572080"/>
            <a:ext cx="190512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hare-tec.eu/" TargetMode="External"/><Relationship Id="rId2" Type="http://schemas.openxmlformats.org/officeDocument/2006/relationships/hyperlink" Target="mailto:sharetec@itd.cnr.it" TargetMode="External"/><Relationship Id="rId3" Type="http://schemas.openxmlformats.org/officeDocument/2006/relationships/hyperlink" Target="mailto:jeff@itd.cnr.it" TargetMode="External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26920" y="2090880"/>
            <a:ext cx="7417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hare.TEC: una piattaforma di condivisione di risorse digitali per la formazione dei docenti a livello europ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4149720"/>
            <a:ext cx="6840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Jeffrey Earp (ITD - C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gno Bolibrì – Bologna 26 Marzo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 gli stakeho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05092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ssociazioni di docenti e di formatori doc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positories educ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di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rnitori di risorse educative digitali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content provid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24000" y="260280"/>
            <a:ext cx="8496000" cy="2232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4f81b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3429000"/>
            <a:ext cx="8208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cile da trov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erenti al specifico contesto della formazione doc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ffidabili e sperimentat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otenzialmente riutilizz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novative (in termini pedagogici e tecnolog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2680" y="1844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atica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1916280"/>
            <a:ext cx="2663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0" t="0" r="46349" b="32773"/>
          <a:stretch/>
        </p:blipFill>
        <p:spPr>
          <a:xfrm>
            <a:off x="1103400" y="549360"/>
            <a:ext cx="1511280" cy="14414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71400" y="3254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eece1"/>
                </a:solidFill>
                <a:latin typeface="Arial"/>
              </a:rPr>
              <a:t>formatori docen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11800" y="333360"/>
            <a:ext cx="2605320" cy="2239920"/>
            <a:chOff x="6211800" y="333360"/>
            <a:chExt cx="2605320" cy="2239920"/>
          </a:xfrm>
        </p:grpSpPr>
        <p:pic>
          <p:nvPicPr>
            <p:cNvPr id="221" name="" descr=""/>
            <p:cNvPicPr/>
            <p:nvPr/>
          </p:nvPicPr>
          <p:blipFill>
            <a:blip r:embed="rId2"/>
            <a:srcRect l="0" t="0" r="49248" b="36689"/>
            <a:stretch/>
          </p:blipFill>
          <p:spPr>
            <a:xfrm>
              <a:off x="6869160" y="631800"/>
              <a:ext cx="13590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24400" y="333360"/>
              <a:ext cx="259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eeece1"/>
                  </a:solidFill>
                  <a:latin typeface="Arial"/>
                </a:rPr>
                <a:t>docenti in form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11800" y="1870200"/>
              <a:ext cx="25923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utoapprend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05320" y="333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eeece1"/>
                </a:solidFill>
                <a:latin typeface="Arial"/>
              </a:rPr>
              <a:t>doc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rcRect l="36974" t="13976" r="15014" b="23173"/>
          <a:stretch/>
        </p:blipFill>
        <p:spPr>
          <a:xfrm>
            <a:off x="3932280" y="696960"/>
            <a:ext cx="1297080" cy="1293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932200" y="185724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giornamento profess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7800" y="2708280"/>
            <a:ext cx="75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i e tre hanno bisogno di risorse digitali che son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095640" cy="2309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572000" y="1484280"/>
            <a:ext cx="3527280" cy="282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364000" y="3500280"/>
            <a:ext cx="324036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risorse Share.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2195640" y="2421000"/>
            <a:ext cx="2641320" cy="363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4360" y="1773360"/>
            <a:ext cx="813744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stinati a chi opera del contesto FD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 non direttamente agli studenti scolasti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rendono percorsi, moduli didattici, esempi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buona pratica, materiali di studio, ec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enienti da contesti (nazionali) dive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lizzati dai partners del consorzio, da enti 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rvizi esterni, dai singoli ut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iberi” e anche commerc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e risorse Share.T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3635280" y="620640"/>
            <a:ext cx="5040360" cy="5243760"/>
            <a:chOff x="3635280" y="620640"/>
            <a:chExt cx="5040360" cy="524376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rcRect l="11012" t="0" r="12075" b="0"/>
            <a:stretch/>
          </p:blipFill>
          <p:spPr>
            <a:xfrm>
              <a:off x="3635280" y="620640"/>
              <a:ext cx="5040360" cy="5243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7" name=""/>
            <p:cNvSpPr/>
            <p:nvPr/>
          </p:nvSpPr>
          <p:spPr>
            <a:xfrm>
              <a:off x="4500360" y="3357720"/>
              <a:ext cx="3166920" cy="35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95280" y="3778200"/>
            <a:ext cx="2592360" cy="17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Ho imparato di più da questo video che da tutti i libri che ho letto su Reggio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hemm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836640"/>
            <a:ext cx="3024360" cy="23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ttimi esempi di come le idee di Reggio Emilia possono essere trasferiti in altri contesti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nette Lopez de Mend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lorizzare la dimensione europea della F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hare.TEC favorisce 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lang="it-IT" sz="3200" spc="-1" strike="noStrike">
                <a:solidFill>
                  <a:srgbClr val="0000ff"/>
                </a:solidFill>
                <a:latin typeface="Arial"/>
              </a:rPr>
              <a:t>access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a risorse digitali per la F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3200" spc="-1" strike="noStrike">
                <a:solidFill>
                  <a:srgbClr val="0000ff"/>
                </a:solidFill>
                <a:latin typeface="Arial"/>
              </a:rPr>
              <a:t>condivi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esperienze d’u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0" lang="it-IT" sz="3200" spc="-1" strike="noStrike">
                <a:solidFill>
                  <a:srgbClr val="0000ff"/>
                </a:solidFill>
                <a:latin typeface="Arial"/>
              </a:rPr>
              <a:t>scamb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i know-how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. oltre i confini (naziona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4033800" cy="36640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licando i confini: la dimensione multilinguistica / multicult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li aspetti caratteristici di Share.T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9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2080" indent="-530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icerca mediante terminologie F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2080" indent="-530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scrizioni pedagogiche delle risorse digita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2080" indent="-530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ppatura di diversi contesti FD in Europ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2080" indent="-530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Massa critica di contenuti F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92080" indent="-530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terazione fra le persone e le realtà che costituiscono la “comunità FD” in Europa (networking e cluster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 che punto siam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lidazione del sistema pil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viluppo della versione b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ggregazione delle risorse nel consorz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fronto con gli utenti finali e gli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07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il sistema pilota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1587" r="0" b="0"/>
          <a:stretch/>
        </p:blipFill>
        <p:spPr>
          <a:xfrm>
            <a:off x="1547640" y="1341360"/>
            <a:ext cx="5759640" cy="45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87280" y="5234040"/>
            <a:ext cx="7345440" cy="503280"/>
          </a:xfrm>
          <a:prstGeom prst="rect">
            <a:avLst/>
          </a:prstGeom>
          <a:solidFill>
            <a:srgbClr val="ffff99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hare.TEC – il proge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haring Digital Resources in the Teacher Educatio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Content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lus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gram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ugno 2008 - Maggi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sorz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Istituto per le Tecnologie Didattiche, CNR  (IT) (Coordinator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rinity College Dublin (IE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niversità Ca' Foscari, Venezia  (I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tockholm University (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pen University of the Netherlands (N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Universidad de Valladolid (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fia University (B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EB Editore (I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upp 13"/>
          <p:cNvGrpSpPr/>
          <p:nvPr/>
        </p:nvGrpSpPr>
        <p:grpSpPr>
          <a:xfrm>
            <a:off x="7929720" y="6254640"/>
            <a:ext cx="857160" cy="490320"/>
            <a:chOff x="7929720" y="6254640"/>
            <a:chExt cx="857160" cy="490320"/>
          </a:xfrm>
        </p:grpSpPr>
        <p:pic>
          <p:nvPicPr>
            <p:cNvPr id="181" name="Picture 9" descr="jaune"/>
            <p:cNvPicPr/>
            <p:nvPr/>
          </p:nvPicPr>
          <p:blipFill>
            <a:blip r:embed="rId1"/>
            <a:stretch/>
          </p:blipFill>
          <p:spPr>
            <a:xfrm>
              <a:off x="8136360" y="6254640"/>
              <a:ext cx="428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ruta 12"/>
            <p:cNvSpPr/>
            <p:nvPr/>
          </p:nvSpPr>
          <p:spPr>
            <a:xfrm>
              <a:off x="7929720" y="6529320"/>
              <a:ext cx="857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r>
                <a:rPr b="1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ent</a:t>
              </a:r>
              <a:r>
                <a:rPr b="1" i="1" lang="en-GB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l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Picture 2" descr="C:\Documents and Settings\eriaxd\Skrivbord\Pågående projekt\Share.TEC\Logotype\bilder\logo sharetec horisontal.gif"/>
          <p:cNvPicPr/>
          <p:nvPr/>
        </p:nvPicPr>
        <p:blipFill>
          <a:blip r:embed="rId2"/>
          <a:stretch/>
        </p:blipFill>
        <p:spPr>
          <a:xfrm>
            <a:off x="4000680" y="6138720"/>
            <a:ext cx="1284120" cy="576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187280" y="2997360"/>
            <a:ext cx="7345440" cy="1655640"/>
          </a:xfrm>
          <a:prstGeom prst="rect">
            <a:avLst/>
          </a:prstGeom>
          <a:solidFill>
            <a:srgbClr val="4f81b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59640" y="33764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f81bd"/>
                </a:solidFill>
                <a:latin typeface="Arial"/>
              </a:rPr>
              <a:t>università &amp;</a:t>
            </a:r>
            <a:br>
              <a:rPr sz="1800"/>
            </a:br>
            <a:r>
              <a:rPr b="0" lang="it-IT" sz="1800" spc="-1" strike="noStrike">
                <a:solidFill>
                  <a:srgbClr val="4f81bd"/>
                </a:solidFill>
                <a:latin typeface="Arial"/>
              </a:rPr>
              <a:t>istituti ricerca</a:t>
            </a:r>
            <a:br>
              <a:rPr sz="1800"/>
            </a:br>
            <a:r>
              <a:rPr b="0" lang="it-IT" sz="1800" spc="-1" strike="noStrike">
                <a:solidFill>
                  <a:srgbClr val="4f81bd"/>
                </a:solidFill>
                <a:latin typeface="Arial"/>
              </a:rPr>
              <a:t>nella FD/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87280" y="4653000"/>
            <a:ext cx="7345440" cy="576360"/>
          </a:xfrm>
          <a:prstGeom prst="rect">
            <a:avLst/>
          </a:prstGeom>
          <a:solidFill>
            <a:srgbClr val="c0504d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88320" y="47610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0504d"/>
                </a:solidFill>
                <a:latin typeface="Arial"/>
              </a:rPr>
              <a:t>sviluppo TIC/didat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4680" y="525456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6600"/>
                </a:solidFill>
                <a:latin typeface="Arial"/>
              </a:rPr>
              <a:t>editore univers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rcRect l="24012" t="12211" r="19884" b="19751"/>
          <a:stretch/>
        </p:blipFill>
        <p:spPr>
          <a:xfrm>
            <a:off x="1763640" y="1700280"/>
            <a:ext cx="5543640" cy="42019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CK - Resource Integration Companion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rcRect l="0" t="0" r="49248" b="36689"/>
          <a:stretch/>
        </p:blipFill>
        <p:spPr>
          <a:xfrm>
            <a:off x="611280" y="4221000"/>
            <a:ext cx="1358640" cy="1366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0" t="0" r="46349" b="32773"/>
          <a:stretch/>
        </p:blipFill>
        <p:spPr>
          <a:xfrm>
            <a:off x="1403280" y="4724280"/>
            <a:ext cx="1511280" cy="1441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36974" t="13976" r="15014" b="23173"/>
          <a:stretch/>
        </p:blipFill>
        <p:spPr>
          <a:xfrm>
            <a:off x="611280" y="5229360"/>
            <a:ext cx="1296720" cy="1293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V="1">
            <a:off x="2627280" y="3500280"/>
            <a:ext cx="936720" cy="115272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er maggiore inform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o web del progetto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20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1"/>
              </a:rPr>
              <a:t>http://www.share-tec.eu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att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br>
              <a:rPr sz="2000"/>
            </a:br>
            <a:r>
              <a:rPr b="0" lang="it-IT" sz="20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2"/>
              </a:rPr>
              <a:t>sharetec@itd.cnr.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 u="sng">
                <a:solidFill>
                  <a:srgbClr val="0000ff"/>
                </a:solidFill>
                <a:uFillTx/>
                <a:latin typeface="Arial"/>
                <a:ea typeface="ＭＳ Ｐゴシック"/>
                <a:hlinkClick r:id="rId3"/>
              </a:rPr>
              <a:t>jeff@itd.cnr.i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6804000" y="2133720"/>
            <a:ext cx="1008000" cy="201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4716360" y="3500280"/>
            <a:ext cx="1494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rofili personali degli ut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87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testualizzati in termini FD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(anagraficamente e per contesto professionale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di prat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rricchiti automaticamente da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11280" y="4292640"/>
            <a:ext cx="7811640" cy="1925640"/>
            <a:chOff x="611280" y="4292640"/>
            <a:chExt cx="7811640" cy="192564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6363000" y="4507200"/>
              <a:ext cx="2059920" cy="14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3471480" y="4292640"/>
              <a:ext cx="2890080" cy="19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3"/>
            <a:stretch/>
          </p:blipFill>
          <p:spPr>
            <a:xfrm>
              <a:off x="611280" y="4345920"/>
              <a:ext cx="1999080" cy="133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599760" y="547200"/>
            <a:ext cx="75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a faticosa ricerca d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sor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per la F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2200" y="1413000"/>
            <a:ext cx="7867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ando motori generici (Google, Bin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ati a valanga, m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avigando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siti &amp; servizi per l’educazion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dentifica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isorse per la F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stire registrazioni e riferimenti multipli (dispersione)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trando in “acque nuove”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frontare lingue diverse, riferimenti a sistemi e contest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educativi “estranei”, terminologia generica (difficoltà d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comprensio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rcRect l="19535" t="17119" r="19866" b="15939"/>
          <a:stretch/>
        </p:blipFill>
        <p:spPr>
          <a:xfrm>
            <a:off x="179280" y="189000"/>
            <a:ext cx="3313080" cy="2376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460840" y="4102200"/>
            <a:ext cx="352908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rché Share.T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re un impulso all'innovazione nei processi educativi r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spondendo all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he esigenze della Formazione Docenti (FD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formazione iniziale ed aggiornamento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1069920"/>
            <a:ext cx="8064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Arial"/>
              </a:rPr>
              <a:t>La formazione dei docenti in Euro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655360"/>
            <a:ext cx="8229600" cy="32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cuni ostacoli all’innovazione e alla sua propagazion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>
            <a:grayscl/>
            <a:lum contrast="-12000"/>
          </a:blip>
          <a:srcRect l="2362" t="0" r="2362" b="551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66"/>
                </a:solidFill>
                <a:latin typeface="Arial"/>
              </a:rPr>
              <a:t>Lo scenario attuale della FD in Europa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200" y="2205000"/>
            <a:ext cx="20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eterogeneità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campo F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2276640"/>
            <a:ext cx="180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diversità delle </a:t>
            </a:r>
            <a:br>
              <a:rPr sz="2000"/>
            </a:b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tradizioni F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005360"/>
            <a:ext cx="23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Difficoltà a raggiungere risorse e know-h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 “</a:t>
            </a: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silo effec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945120" y="4005360"/>
            <a:ext cx="203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diffidenza:</a:t>
            </a:r>
            <a:br>
              <a:rPr sz="2000"/>
            </a:b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“not inv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here” syndrom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… </a:t>
            </a: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vogliamo arrivare qu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he cos’è Share.T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698508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“due” parole 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piattaforma per l’accesso unificato a risorse digitali utili nell’ambito della formazione docenti in Euro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he cosa f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ccoglie descrizioni di risorse (metadati) da diversi collezioni FD e dai singoli ut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ne strumenti avanzati per la ricerca e l’identificazione di risorse potenzialmente ut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nsente la personalizzazione della fun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sce la condivisione delle proprie risorse, feedback ed esperienze all’interno della comunità degli ut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796000" y="198900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84360" y="2205000"/>
            <a:ext cx="1007640" cy="3312720"/>
            <a:chOff x="684360" y="2205000"/>
            <a:chExt cx="1007640" cy="331272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rcRect l="44643" t="12122" r="19116" b="13796"/>
            <a:stretch/>
          </p:blipFill>
          <p:spPr>
            <a:xfrm>
              <a:off x="838800" y="3446280"/>
              <a:ext cx="665280" cy="9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rcRect l="0" t="6431" r="53656" b="32701"/>
            <a:stretch/>
          </p:blipFill>
          <p:spPr>
            <a:xfrm>
              <a:off x="753840" y="2205000"/>
              <a:ext cx="93600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3"/>
            <a:srcRect l="0" t="0" r="49248" b="29633"/>
            <a:stretch/>
          </p:blipFill>
          <p:spPr>
            <a:xfrm>
              <a:off x="684360" y="4522680"/>
              <a:ext cx="1007640" cy="9950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10" name=""/>
          <p:cNvGraphicFramePr/>
          <p:nvPr/>
        </p:nvGraphicFramePr>
        <p:xfrm>
          <a:off x="2268360" y="1844640"/>
          <a:ext cx="6409080" cy="3960360"/>
        </p:xfrm>
        <a:graphic>
          <a:graphicData uri="http://schemas.openxmlformats.org/drawingml/2006/table">
            <a:tbl>
              <a:tblPr/>
              <a:tblGrid>
                <a:gridCol w="6409080"/>
              </a:tblGrid>
              <a:tr h="14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tori docenti (individui / istituzion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enti in forma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250920" y="69228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r chi è?  –  gli utenti tar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9:11:24Z</dcterms:created>
  <dc:creator>ITD</dc:creator>
  <dc:description/>
  <dc:language>en-US</dc:language>
  <cp:lastModifiedBy>jeff</cp:lastModifiedBy>
  <dcterms:modified xsi:type="dcterms:W3CDTF">2010-03-26T11:01:26Z</dcterms:modified>
  <cp:revision>475</cp:revision>
  <dc:subject/>
  <dc:title>Diapositiva 1</dc:title>
</cp:coreProperties>
</file>